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6F6-B806-4591-8E50-9E97BA31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EBB-121A-4F84-9DD2-736CDD2A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76E-94D7-46AF-8A1F-217D9B3C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DF9-CBAB-456D-949D-5DD57F68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840-E6DD-49AB-AEFD-8D1B9C86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298-C47C-41E1-B35E-2BFDB45B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027-417C-4D1D-9CC9-6FDCC39E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0C5-0552-47B5-B99F-2855BCB9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10A-627B-4C91-92AD-FE41E5DF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772-87A4-4036-B5DC-F018271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76C-3CC8-4663-B2B1-639EBEED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E30-8BB8-4CCE-8A99-23FA02A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653-D81E-4EC6-BB76-886BB556A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fol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10:53Z</dcterms:created>
  <dc:creator>rhaseitl</dc:creator>
  <dc:description/>
  <dc:language>en-US</dc:language>
  <cp:lastModifiedBy>rhaseitl</cp:lastModifiedBy>
  <dcterms:modified xsi:type="dcterms:W3CDTF">2011-11-22T15:10:58Z</dcterms:modified>
  <cp:revision>1</cp:revision>
  <dc:subject/>
  <dc:title>Testfolien</dc:title>
</cp:coreProperties>
</file>